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8974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65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DBC84-99FE-4E01-85EE-810D37593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128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012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128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012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375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6440"/>
            <a:ext cx="475128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6375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376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218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0"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“Extreme” power savings mode + additional power savings in sleep for non-mesh. (40+ hours of life in sle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eployment Planning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schoo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school off power gr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hours of usage daily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natural resources are availab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mary modes of laptop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draw of 21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 to 26 W w. power fact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than 1 Watt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of 4 – 7 Watts while running w. peaks up to 9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25280"/>
            <a:ext cx="4952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How Much Time to Charge 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st with the Laptop off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ptop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power used to charge batt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Individual solar panel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maximum output (full s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e lap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W charges laptop in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W charges laptop in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W charges laptop in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Watt solar pa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for smalles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ized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initi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solar panel arrays and charge ct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ttery storage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rters to minimize distribution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7680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viable with existing XO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Ah Lead Acid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l charge 2 laptop batteries in 2 h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, Wind, Pedal,Trea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ion to 2 x 60W solar blanke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in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John Watlington</cp:lastModifiedBy>
  <dcterms:modified xsi:type="dcterms:W3CDTF">2008-11-18T16:35:00Z</dcterms:modified>
  <cp:revision>2</cp:revision>
  <dc:subject/>
  <dc:title>One Laptop per Child</dc:title>
</cp:coreProperties>
</file>